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261-9F4E-45AE-805D-4BE6F4DC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B71C-E863-462C-9DAA-F6E512C3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6D60A-02D7-4D64-84F2-E539BE61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AD848-74A9-48D3-966B-E79D98EC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11A7E-493C-480E-B072-A297AF12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617BC-C83A-4B41-AB24-313BA5DA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054C8-0FEB-4CE2-A33F-E0AA9BF7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20A44-47B4-4930-B1A1-D9A09CDE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5F618-470F-4D7C-96B0-4CBA7995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255DF-BE0B-4313-A332-718D0133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CDC02-82A8-466C-8E2E-A4A1F9C6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AF2-77D2-4F11-90AD-2707176B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0767-4859-4155-8FB4-411A7589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D62F-6F23-4A5D-A838-80EC35EC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C157-D099-4BB1-8F27-EBBD0949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44CD-EB3A-44CA-9D19-B48842D1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89CA-C23D-498A-86AC-171DCDB5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37D8-7C43-42DD-8006-E47436CD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5E06-49F7-48EE-AB9A-A4F31602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1CBF-8489-4029-8BC7-C21B7C92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276E-5CDD-45D8-A196-D9DDD44C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E221-4E96-4159-A99E-CD6AF3E8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5A9D-E485-4831-A4EC-3CCD8291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56D6-1DAA-45E2-9988-07797A7B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DAC1-6835-4E22-894E-2C309DE3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7C0B-4D4A-49D7-BDBF-05CF6E57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FEFDA-2C02-4751-9CF5-9B2A7654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64398-9D21-40D6-83A0-F3A80BB4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2E4DB-15CA-4E9A-B952-1889CE89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2C1B3-4E37-4355-BD69-D04B120F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3C150-4C92-4086-B43A-864F05BA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722C-B33B-4C0D-8AF0-88963ABE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AC74D-DD91-42D6-9CA4-AC2C190B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E0BA6-1AE5-4C95-8E5B-6B72795F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6219F-3374-4521-94E2-FD78F280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4BB30-B58E-443F-905C-899F2D01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993F8-B8A6-4246-A29E-CFC9136C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7AB30-ADEE-47DF-A39A-671481A7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BE3A0-33E7-425E-AE6E-342A089C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F1F25-7425-45A3-8FEF-00C7B1BE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B5705-6445-4A85-8D52-18DD9F63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2214B-90D4-4C65-BAB6-CB4376E8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7DAD-5BC6-41DB-830C-A06FC840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7EC3E-696B-4D70-B784-CCA1E68B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62874-1C02-4F5E-9B06-3EEEB2B8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BA465-A439-43FC-99B6-227D3ED0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65034-4FB0-4038-ACA4-83A1D628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3C909-95EB-4F43-B467-7143C584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CC9FD-FD9E-4FC2-93F3-247C4738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9B36E-D6D3-4B33-8669-495163E2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327B0-82F7-47E3-8566-96DFD697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AA33D-69DD-4318-A44C-DEF412A8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86950-5B63-4D35-BFF6-422D8BD8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EA9-6FD2-4225-93B2-FC8E53A9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A05F3-84A3-4CAE-8E6D-00085108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9ECA5-5605-4D62-92D6-46760BFF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C8F2D-ADDC-448D-B9DD-6E624932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9035C-392D-4203-8B91-BA9E9CB6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D69E5-40BA-4A6B-AFAE-1FDDFDF8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AC4AB-A8C2-4EA6-A09B-461E2148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AE742-6256-4851-8EBD-92853AAC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84EEE-2A14-4325-9EDD-4777B459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2DC32-E75A-4BA3-9B28-FBAF5A23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53667-B04C-4082-A958-970147DE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D631-465B-4ED0-A6CF-31A1E5B8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CC1D0-C9EA-4712-8137-5D3F5F60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251FD-390E-47E5-9E7C-6A35722F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4159A-1B04-4A5B-931C-388DF97B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10FE7-276B-433F-AA58-BE11C6A1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DE086-4EEA-4AAF-B3D5-A07D7FFB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37916-1D2B-410F-930B-C72BDEC6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BA1BE-1D24-4D01-9462-4DA549D0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415F8-D4EE-4506-80EC-F4D92218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3F94B-1C7A-436D-97F2-159F50DD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69960-FBD2-4704-ABFC-163CCD82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2D11-A984-4D4F-A96C-62304723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E9801-48EF-4BBA-9203-B200A55D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B1E2E-918F-422B-9488-ADB8ABF6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06D68-788F-4784-A431-4BC28817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0F613-285C-40A6-A867-9E90BBF4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AAECA-7DEE-46AA-9420-691228EB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12C79-BDA9-44C3-8D3D-A0A5066C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136B7-EF99-431B-943A-9BD75FFA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C5AAB-9A93-48DA-BB91-2EE089C9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65912-8369-407F-A871-64A50FF6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C8465-1AAC-4161-96A5-FCFCF9C8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9D6-8D50-4EEC-9280-244B90EA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2EA79-0CA5-47A3-808A-1970BA34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B8CA9-1A54-4208-B7F5-F00AE2AF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D49BB-8EAC-4F75-B2F4-3B22F4E0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99FAD-3DEE-49F5-B52D-359DCB02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95E2F-9630-4081-9998-436DB116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19AF9-37AD-4BF8-A05A-94FE4760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64669-3495-4384-9052-6D267286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60C29-E2DA-44AA-BA24-1107EBE0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31307-57CB-488D-A328-AC725E0C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BE8C0-C2E7-4A07-B0F9-85EB5B57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C6B-90DF-4A3C-AB32-8388E4C2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BE7F3-7BB8-4F25-8C04-34F196BD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F8658-9051-4D5B-865D-B7C82585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AC42B-69D4-4E25-A530-372D9607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189A9-3991-4BA6-8BD2-A18021A9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41F5B-CCBD-4317-9C76-9C11DCC0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2B373-50B3-44B4-BEFA-08433ACE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2C764-0D48-4D19-B999-6B78D2F6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05597-4EE8-4248-BBB4-1CFDCC0B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ED42F-C5A4-4B69-9A6E-E3853801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EF9AE-4BFA-4B8D-BCE0-83FDED0E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D868-5E0D-4E25-9DA5-070433149D5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C806-5700-4624-9B17-71BC0B362310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8" name="Chevron 10"/>
          <p:cNvGrpSpPr/>
          <p:nvPr/>
        </p:nvGrpSpPr>
        <p:grpSpPr>
          <a:xfrm>
            <a:off x="3565440" y="2962440"/>
            <a:ext cx="336600" cy="377640"/>
            <a:chOff x="3565440" y="2962440"/>
            <a:chExt cx="336600" cy="377640"/>
          </a:xfrm>
        </p:grpSpPr>
        <p:pic>
          <p:nvPicPr>
            <p:cNvPr id="109" name="Chevron 10" descr=""/>
            <p:cNvPicPr/>
            <p:nvPr/>
          </p:nvPicPr>
          <p:blipFill>
            <a:blip r:embed="rId4"/>
            <a:stretch/>
          </p:blipFill>
          <p:spPr>
            <a:xfrm>
              <a:off x="3565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Chevron 15"/>
          <p:cNvGrpSpPr/>
          <p:nvPr/>
        </p:nvGrpSpPr>
        <p:grpSpPr>
          <a:xfrm>
            <a:off x="3376440" y="2962440"/>
            <a:ext cx="336600" cy="377640"/>
            <a:chOff x="3376440" y="2962440"/>
            <a:chExt cx="336600" cy="377640"/>
          </a:xfrm>
        </p:grpSpPr>
        <p:pic>
          <p:nvPicPr>
            <p:cNvPr id="112" name="Chevron 15" descr=""/>
            <p:cNvPicPr/>
            <p:nvPr/>
          </p:nvPicPr>
          <p:blipFill>
            <a:blip r:embed="rId5"/>
            <a:stretch/>
          </p:blipFill>
          <p:spPr>
            <a:xfrm>
              <a:off x="3376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3331-D8A9-4672-B88E-C084897B2AAC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8745-B962-4801-81DE-CD9CB82A9DA8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7E54-88F2-45DB-9F61-09A2B414699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5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CB06-104E-4171-A870-000A5C2F4A07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5F29-99F3-47AE-9100-A45F40BD95F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9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2" name="Right Triangle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Straight Connector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355" name="Chevron 19"/>
          <p:cNvGrpSpPr/>
          <p:nvPr/>
        </p:nvGrpSpPr>
        <p:grpSpPr>
          <a:xfrm>
            <a:off x="8589960" y="4943520"/>
            <a:ext cx="334800" cy="377640"/>
            <a:chOff x="8589960" y="4943520"/>
            <a:chExt cx="334800" cy="377640"/>
          </a:xfrm>
        </p:grpSpPr>
        <p:pic>
          <p:nvPicPr>
            <p:cNvPr id="356" name="Chevron 19" descr=""/>
            <p:cNvPicPr/>
            <p:nvPr/>
          </p:nvPicPr>
          <p:blipFill>
            <a:blip r:embed="rId6"/>
            <a:stretch/>
          </p:blipFill>
          <p:spPr>
            <a:xfrm>
              <a:off x="8589960" y="494352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Chevron 20"/>
          <p:cNvGrpSpPr/>
          <p:nvPr/>
        </p:nvGrpSpPr>
        <p:grpSpPr>
          <a:xfrm>
            <a:off x="8405640" y="4943520"/>
            <a:ext cx="336600" cy="377640"/>
            <a:chOff x="8405640" y="4943520"/>
            <a:chExt cx="336600" cy="377640"/>
          </a:xfrm>
        </p:grpSpPr>
        <p:pic>
          <p:nvPicPr>
            <p:cNvPr id="359" name="Chevron 20" descr=""/>
            <p:cNvPicPr/>
            <p:nvPr/>
          </p:nvPicPr>
          <p:blipFill>
            <a:blip r:embed="rId7"/>
            <a:stretch/>
          </p:blipFill>
          <p:spPr>
            <a:xfrm>
              <a:off x="8405640" y="494352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CEAB-63BF-446E-AB56-A74AD27F550C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71BD-4918-420E-B146-ECF24189A59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4" descr=""/>
          <p:cNvPicPr/>
          <p:nvPr/>
        </p:nvPicPr>
        <p:blipFill>
          <a:blip r:embed="rId1"/>
          <a:stretch/>
        </p:blipFill>
        <p:spPr>
          <a:xfrm>
            <a:off x="487440" y="2871720"/>
            <a:ext cx="8186760" cy="17859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443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Lucida Sans Unicode"/>
              </a:rPr>
              <a:t>Julia Critchle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51" name="Group 2"/>
          <p:cNvGrpSpPr/>
          <p:nvPr/>
        </p:nvGrpSpPr>
        <p:grpSpPr>
          <a:xfrm>
            <a:off x="85680" y="115920"/>
            <a:ext cx="1606680" cy="530280"/>
            <a:chOff x="85680" y="115920"/>
            <a:chExt cx="1606680" cy="530280"/>
          </a:xfrm>
        </p:grpSpPr>
        <p:pic>
          <p:nvPicPr>
            <p:cNvPr id="452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85680" y="11592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7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1044360" y="12060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4" name="Picture 1" descr=""/>
          <p:cNvPicPr/>
          <p:nvPr/>
        </p:nvPicPr>
        <p:blipFill>
          <a:blip r:embed="rId4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" descr=""/>
          <p:cNvPicPr/>
          <p:nvPr/>
        </p:nvPicPr>
        <p:blipFill>
          <a:blip r:embed="rId5"/>
          <a:stretch/>
        </p:blipFill>
        <p:spPr>
          <a:xfrm>
            <a:off x="2484360" y="139680"/>
            <a:ext cx="35276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n relation to your research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st be defined by this guiding concept (ie your research objective, the problem or issue you are discuss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just a descriptive list of the material available, or a set of summ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Title 1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8791920" cy="12384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at are the main arguments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 authors make similar or different argument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some arguments more convincing than other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 has research been conducted in the literature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extensive has it been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kinds of data have been present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pertinent are they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there sufficient amounts of data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y adequately answer the question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48104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ypes of methodologi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methodology more effective than others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heoretical frameworks or approach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at do they allow the authors o do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approach more effective than others? 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Overall, is one work more convincing than other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Or are the works you have compared too different to evaluate against each othe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arching for literatu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ot extensive or exhaustive “systematic review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o not need to identify “all literature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cent literature will often do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BUT do need to identify key articles in the field (not always recen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Key artic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ted a lo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High impact journ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heck citations e.g. in pubmed, google scholar, science citation index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DLINE (PubM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ystematic review artic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cience Citation Index (can be very helpful if there is a “key paper” that most relevant studies will have cit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384120" y="36360"/>
            <a:ext cx="8302680" cy="10242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"/>
          <p:cNvPicPr/>
          <p:nvPr/>
        </p:nvPicPr>
        <p:blipFill>
          <a:blip r:embed="rId2"/>
          <a:srcRect l="0" t="0" r="-1248" b="-2039"/>
          <a:stretch/>
        </p:blipFill>
        <p:spPr>
          <a:xfrm>
            <a:off x="2209680" y="1066680"/>
            <a:ext cx="6782040" cy="5083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7"/>
          <p:cNvSpPr/>
          <p:nvPr/>
        </p:nvSpPr>
        <p:spPr>
          <a:xfrm>
            <a:off x="152280" y="53341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5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4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457200" y="3809880"/>
            <a:ext cx="1433520" cy="685800"/>
          </a:xfrm>
          <a:prstGeom prst="rightArrow">
            <a:avLst>
              <a:gd name="adj1" fmla="val 50000"/>
              <a:gd name="adj2" fmla="val 522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4"/>
          <p:cNvSpPr/>
          <p:nvPr/>
        </p:nvSpPr>
        <p:spPr>
          <a:xfrm>
            <a:off x="7162920" y="1219320"/>
            <a:ext cx="1066680" cy="1433520"/>
          </a:xfrm>
          <a:prstGeom prst="downArrow">
            <a:avLst>
              <a:gd name="adj1" fmla="val 50000"/>
              <a:gd name="adj2" fmla="val 335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5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ovides an overview and a critical evaluation of a body of literature relating to a research topic or a research proble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nalyses a body of literature in order to classify it by themes or categories, rather than simply discussing individual works one after anoth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esents the research and ideas of the field rather than each individual work or author by itself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4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"/>
          <p:cNvSpPr/>
          <p:nvPr/>
        </p:nvSpPr>
        <p:spPr>
          <a:xfrm>
            <a:off x="3809880" y="27432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8"/>
          <p:cNvSpPr/>
          <p:nvPr/>
        </p:nvSpPr>
        <p:spPr>
          <a:xfrm>
            <a:off x="4191120" y="2743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9"/>
          <p:cNvSpPr/>
          <p:nvPr/>
        </p:nvSpPr>
        <p:spPr>
          <a:xfrm flipH="1">
            <a:off x="3809520" y="3048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"/>
          <p:cNvSpPr/>
          <p:nvPr/>
        </p:nvSpPr>
        <p:spPr>
          <a:xfrm flipV="1">
            <a:off x="3809880" y="27428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>
            <a:off x="4267080" y="2590920"/>
            <a:ext cx="1219320" cy="685800"/>
          </a:xfrm>
          <a:prstGeom prst="leftArrow">
            <a:avLst>
              <a:gd name="adj1" fmla="val 50000"/>
              <a:gd name="adj2" fmla="val 44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8" name="AutoShape 10"/>
          <p:cNvSpPr/>
          <p:nvPr/>
        </p:nvSpPr>
        <p:spPr>
          <a:xfrm>
            <a:off x="1752480" y="685800"/>
            <a:ext cx="914400" cy="1357200"/>
          </a:xfrm>
          <a:prstGeom prst="downArrow">
            <a:avLst>
              <a:gd name="adj1" fmla="val 50000"/>
              <a:gd name="adj2" fmla="val 3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art with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n first sentence, state general topic of pap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xplain background / motivation (literature review) in a few sentences or paragraph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Narrow down to </a:t>
            </a:r>
            <a:r>
              <a:rPr b="0" lang="en-GB" sz="23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Brief statement, usually one sent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mportant, because it indicat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that this work is new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links known and research question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creates story lin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Flag this very clea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.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known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clear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eeds to be determined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search Question must follow from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w sentence / paragraph for each known, unknown,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e transition phrases and wor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peat key the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EA 2013 course on Epidemiology – Shah Ebrahi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pidemiology Supercourse (presentations by Richard Smith and Pauls Zieg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56560" cy="1243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as your research question already been answered? If so, how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earch through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ing of a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ituates your topic in relation to previous research and illuminates a spot for your research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[Also demonstrates your knowledge of literature]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veral goal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provides background for your topic using previous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hows you are familiar with previous, relevant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valuates the depth and breadth of the research in regards to your 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etermines remaining questions or aspects of your topic in need of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Overall, a literature review seeks to answer the following questio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not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y is this importan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ummarise everything in the fie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e loads and demonstrate you know “everything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[This is just a few sentences to a few (short) paragraphs to put your work in context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. Synthesize and evaluate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2. Identify the main ideas of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3. Identify the main argument of the literature review …[that supports your research question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4. Organize the main points of th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5. Writ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ritical thinking, reading, and writ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rategies for reading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the themes or categor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ay be used later to develop a structure for the literature revie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how other writers classify their data, the literature in their fields, etc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read literature reviews in other papers to see how they have been structu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Form categories for analysis and comparis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 strong literature review examines each work on its own and in relation to other works b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dentifying and then analysing them with regards to a number of different research aspects and ide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ossible categories to use for comparison and analys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argu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sults found and conclu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heoretical approa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14:49:39Z</dcterms:created>
  <dc:creator>ntpm</dc:creator>
  <dc:description/>
  <dc:language>en-US</dc:language>
  <cp:lastModifiedBy>Licenced User</cp:lastModifiedBy>
  <cp:lastPrinted>2012-08-01T12:36:40Z</cp:lastPrinted>
  <dcterms:modified xsi:type="dcterms:W3CDTF">2014-09-18T15:36:43Z</dcterms:modified>
  <cp:revision>264</cp:revision>
  <dc:subject/>
  <dc:title>Slide 1</dc:title>
</cp:coreProperties>
</file>